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DA3C-F496-451C-BEEE-D457E2EF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780F-2B7D-4331-9D0D-CBD67779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BBF8-1B1C-4536-A92E-5720B3A95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51DE-60E1-4EEB-82A2-A6BC2AC5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E8D0-2504-47EA-97C2-EA021CF8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0FD7-966D-4B7F-B49A-10F9BA32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1155-4B85-43F3-85F6-795B1388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3EF9-8AB1-4E87-90F9-604B8DC7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7695-96B6-4E8F-A90D-0D5FCCEF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CD6A-A1AE-4264-A068-35FA5949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FC7A-0FA2-4B8E-9A25-C8DF6E37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6A48-3816-46DD-A28E-1326B6ED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B14D-D363-479D-8BA4-C8045EDDA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arl think of a idea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hen he make a meel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Hour project was really gude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Our project was really good.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10. I fill we shood have won.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I feel we should have won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arl think of a idea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Carl thinks of an idea.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hen he make a meel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Then he makes a meal.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.  we will ete soup for lunc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 lik a lot of chease on 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.  we will ete soup for lunc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We will eat soup for lunch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 lik a lot of chease on 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We like a lot of cheese on it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cience project are not eis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t heps to read about them fris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project are not eis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Science projects are not eas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heps to read about them fri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It helps to read about them firs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7.  My teme made an robot?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8.  It teeth and eihgt wheels!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3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7.  My teme made an robot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My team made a robot.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8.  It teeth and eihgt wheels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700" spc="-1" strike="noStrike">
                <a:solidFill>
                  <a:srgbClr val="333399"/>
                </a:solidFill>
                <a:latin typeface="Arial"/>
              </a:rPr>
              <a:t>It has teeth and eight wheels.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Hour project was really gude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10. I fill we shood have won.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3:12:04Z</dcterms:created>
  <dc:creator> </dc:creator>
  <dc:description/>
  <dc:language>en-US</dc:language>
  <cp:lastModifiedBy>teacher</cp:lastModifiedBy>
  <dcterms:modified xsi:type="dcterms:W3CDTF">2010-11-01T00:26:21Z</dcterms:modified>
  <cp:revision>38</cp:revision>
  <dc:subject/>
  <dc:title>Slide 1</dc:title>
</cp:coreProperties>
</file>